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676-562D-46C5-BC70-688DFDAB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E36-7238-4FD6-A9CF-C8BB2AD1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588-BBFF-4A89-B738-F66D69B7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DA1-7C9B-43A8-9B5D-185D2C7E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4464-B2DB-43B2-BE7A-BC760D4F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DBE8-F194-4A43-B103-7EBB5148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B340-8B8A-4A50-B9DF-7244139D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9AED-5ADD-46AE-9E3A-44A5CCA3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F029-96CE-4D64-962B-FA67AC8B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47A4-DED6-411B-B6E4-85B912C0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1D5C-8723-454D-9D83-25146D75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1BC-E9C7-406F-9A33-741188B3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01D5-5CA3-4D75-8243-D30204A4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59A6-07EB-4196-86DE-73DA62F5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1728-8820-4513-B59C-E117B86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1C3F-FDA0-4F5B-B2A9-59FB1179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9B7E-B8B8-42EF-88BF-78390B06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5B4-921A-4643-8249-1E3C8050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0B0-61CA-447B-92AC-9B8DB0CD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115-F200-481C-A655-D2EA7779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EE2-EC30-459E-BA00-83049F5B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778-4B35-44D5-B629-45B42AE4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620-7EE3-4F5B-B8F2-024A346C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8DF-810F-44DD-BD3C-E1F33CA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8551-3828-4C34-B38B-2DC3233EF0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40FB-31A9-470A-956B-993BFD77A3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rightgroup.com/download/cp/g7_geometry.pdf" TargetMode="External"/><Relationship Id="rId3" Type="http://schemas.openxmlformats.org/officeDocument/2006/relationships/hyperlink" Target="http://www.eduplace.com/state/nc/hmm/tools/6.html" TargetMode="External"/><Relationship Id="rId4" Type="http://schemas.openxmlformats.org/officeDocument/2006/relationships/hyperlink" Target="http://www.tki.org.nz/r/esol/esolonline/primary_mainstream/classroom/units/foil_fun/home_e.php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ometric Sha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8960" y="54860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ed by Jane Lo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048120"/>
            <a:ext cx="1218960" cy="12952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505320"/>
            <a:ext cx="914400" cy="18288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9400200">
            <a:off x="5562360" y="3352320"/>
            <a:ext cx="1295280" cy="6098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590920"/>
            <a:ext cx="121932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267080"/>
            <a:ext cx="20574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570200">
            <a:off x="5333400" y="2437920"/>
            <a:ext cx="1066680" cy="685800"/>
          </a:xfrm>
          <a:prstGeom prst="parallelogram">
            <a:avLst>
              <a:gd name="adj" fmla="val 388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ebsites for Additional Expl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quivalent Nets for Rectangular Prisms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rightgroup.com/download/cp/g7_geometry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s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eduplace.com/state/nc/hmm/tools/6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OL On-Line Foil Fu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tki.org.nz/r/esol/esolonline/primary_mainstream/classroom/units/foil_fun/home_e.ph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ike or Differen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in how cones and cylinders are alike and differ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what ways are right prisms and regular pyramids alike? differ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29200" y="1849320"/>
            <a:ext cx="1752480" cy="157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20244600">
            <a:off x="7009920" y="3886200"/>
            <a:ext cx="1765440" cy="1962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20120" y="1828800"/>
            <a:ext cx="1143000" cy="1371600"/>
          </a:xfrm>
          <a:prstGeom prst="can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SquarePyramid"/>
          <p:cNvPicPr/>
          <p:nvPr/>
        </p:nvPicPr>
        <p:blipFill>
          <a:blip r:embed="rId4"/>
          <a:stretch/>
        </p:blipFill>
        <p:spPr>
          <a:xfrm>
            <a:off x="4724280" y="4038480"/>
            <a:ext cx="19814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662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ne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a two-dimensional figure that, when folded, forms a three-dimensional figu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3733920"/>
            <a:ext cx="990720" cy="990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962520" y="3048120"/>
            <a:ext cx="1828800" cy="2438280"/>
            <a:chOff x="3962520" y="3048120"/>
            <a:chExt cx="1828800" cy="2438280"/>
          </a:xfrm>
        </p:grpSpPr>
        <p:sp>
          <p:nvSpPr>
            <p:cNvPr id="103" name=""/>
            <p:cNvSpPr/>
            <p:nvPr/>
          </p:nvSpPr>
          <p:spPr>
            <a:xfrm>
              <a:off x="4572000" y="304812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365760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62520" y="365760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267080"/>
              <a:ext cx="609480" cy="6098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1480" y="3657600"/>
              <a:ext cx="60984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487692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167652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Rectangular Pr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05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net for the yellow rectangular prism is illustrated below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you find other nets of the prism below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09680" y="4038480"/>
            <a:ext cx="45482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宋体"/>
              </a:rPr>
              <a:t>Attributes of a Cub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2133720"/>
            <a:ext cx="7497000" cy="2406600"/>
            <a:chOff x="1143000" y="2133720"/>
            <a:chExt cx="7497000" cy="2406600"/>
          </a:xfrm>
        </p:grpSpPr>
        <p:sp>
          <p:nvSpPr>
            <p:cNvPr id="115" name=""/>
            <p:cNvSpPr/>
            <p:nvPr/>
          </p:nvSpPr>
          <p:spPr>
            <a:xfrm>
              <a:off x="3591360" y="2940120"/>
              <a:ext cx="1558080" cy="1600200"/>
            </a:xfrm>
            <a:prstGeom prst="cube">
              <a:avLst>
                <a:gd name="adj" fmla="val 250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001120" y="3473280"/>
              <a:ext cx="1186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1400" y="327672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481640" y="2330280"/>
              <a:ext cx="815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20520" y="213372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dge(where two faces me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071880" y="3320640"/>
              <a:ext cx="51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3000" y="3397320"/>
              <a:ext cx="224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r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where three 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re edges me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Cub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968480"/>
            <a:ext cx="7853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8600" indent="-4086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a total of 11 distinct (different) nets for a cub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CubeNets"/>
          <p:cNvPicPr/>
          <p:nvPr/>
        </p:nvPicPr>
        <p:blipFill>
          <a:blip r:embed="rId2"/>
          <a:stretch/>
        </p:blipFill>
        <p:spPr>
          <a:xfrm>
            <a:off x="1143000" y="2895480"/>
            <a:ext cx="7010280" cy="3210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477120" y="457200"/>
            <a:ext cx="914400" cy="9907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Regular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62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ular pyram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trahedron - All faces are triang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 the third net for a regular pyramid (tetrahedr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2209680" cy="198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-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523880" y="3124080"/>
            <a:ext cx="25146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Square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20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quare pyram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ntahedron - Base is a square and faces are triang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SquarePyramid"/>
          <p:cNvPicPr/>
          <p:nvPr/>
        </p:nvPicPr>
        <p:blipFill>
          <a:blip r:embed="rId2"/>
          <a:stretch/>
        </p:blipFill>
        <p:spPr>
          <a:xfrm>
            <a:off x="5410080" y="3276720"/>
            <a:ext cx="2438640" cy="2228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219320" y="32767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ix possible nets for a square pyrami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4419720" cy="3272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Square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56:57Z</dcterms:created>
  <dc:creator>Department of IIT</dc:creator>
  <dc:description/>
  <dc:language>en-US</dc:language>
  <cp:lastModifiedBy>S6944451B</cp:lastModifiedBy>
  <dcterms:modified xsi:type="dcterms:W3CDTF">2008-07-01T07:22:46Z</dcterms:modified>
  <cp:revision>32</cp:revision>
  <dc:subject/>
  <dc:title>Implementing the 6th Grade GPS via Geometric Shapes</dc:title>
</cp:coreProperties>
</file>